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796-7668-47DF-B2A5-5C0353D0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F5E-3404-4063-8013-2FF96D1C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D16-3EFE-4012-84BA-70AC94C9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1B1-C48B-419C-BD29-E00C2E25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E02D-CF91-4909-979B-0A69FD37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DA6E-6AD0-4BC6-9066-1F37C73E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A73B3-6B2A-4979-BB67-316F6079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0371-0A95-4D9B-93B9-C281BBB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D4DED-6246-4115-84D6-4EFF4B1A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A4D17-56F6-460E-8483-82215EFD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2C262-F107-4095-B415-8280C8DC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7E7-5352-406D-A68B-D5046361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BC033-99BC-4962-BE2A-70681F1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39AC9-8C94-462D-A6C6-57B161CA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981F3-BDD5-4606-8D9B-4A8DBD28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60749-370D-4558-B7E6-716A5BF5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8CEA-2F70-458C-AA77-3449CA66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C13-0FF8-4629-95D9-D0BC880C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5E7-0B09-4914-BCF2-82F08BC0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D77-3D78-4992-AE55-FA7CCB38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045-D214-4C90-8787-E916F776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277-748F-442C-A8F9-F3ACB4A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A3E-94F7-4B40-A913-474BDC0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44D-1803-4D8A-B8A5-22270A4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27B-6282-4594-BC76-5B7FCEB37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C7C0-5BA4-40C0-89F8-175A8F730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21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šetky boli biele okrem jedného, ktoré bolo sivé. 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6560" cy="4679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edného dňa sa však vrátili a mama kačka ich spočítala, jedno chýbalo, to sivé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4247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ma kačka a otec káčer ho všade hľadali, ale márn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6560" cy="4678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64680"/>
            <a:ext cx="822960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Už sa blížil december, a káčatka nebolo.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8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9120" y="5084280"/>
            <a:ext cx="822960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elá kačacia rodinka odletela do teplých krajín.  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6560" cy="46796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900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ratené sivé káčatko sa túlalo, až ho našlo jedno dievčatko. To dievčatko sa volalo Zuzka a zobrala káčatko domov. Tam ho najskôr nakŕmila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6560" cy="4679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rala sa o káčatko celú zimu. Káčatko považovalo Zuzku za svoju mamk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588680"/>
            <a:ext cx="8229600" cy="37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rala sa o káčatko celú zimu. Káčatko považovalo Zuzku za svoju mamku. Zima sa skončila, prišla jar. Kačacia rodinka sa vrátila domov. Zuzka odniesla káčatko vonku, aby sa troch pásl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9120" y="497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razu zbadali kačaciu rodinku na prechádzke. Káčatko spoznalo svojich rodičov, potom aj súrodencov. Všetci boli veľmi šťastní, najviac však Zuzka, že káčatko má svoju mamk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358920"/>
            <a:ext cx="6586560" cy="4678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Základná škola </a:t>
            </a:r>
            <a:br>
              <a:rPr sz="4000"/>
            </a:b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v Bertotovci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6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Videli st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3139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STRATENÉ KÁCATK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50692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Scenár a obrázky:</a:t>
            </a:r>
            <a:br>
              <a:rPr sz="6600"/>
            </a:b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Lucia Majerníková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Grafická úprava a réžia:</a:t>
            </a:r>
            <a:br>
              <a:rPr sz="4000"/>
            </a:b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Valentín Šefcí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651640" y="337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T*Timpani Heavy"/>
                <a:ea typeface="Tahoma"/>
              </a:rPr>
              <a:t>©</a:t>
            </a:r>
            <a:br>
              <a:rPr sz="6600"/>
            </a:b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200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Konie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312876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uvádz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3068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STRATENÉ KÁCATK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5148360" y="29242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2841120"/>
            <a:ext cx="822960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Napísala: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T*Timpani Heavy"/>
              </a:rPr>
              <a:t>Lucia Majerníková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66ff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6040" y="33336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Bola raz jedna divoká kačka. Vysedela päť káčati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8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5:29:02Z</dcterms:created>
  <dc:creator>Riaditeľ</dc:creator>
  <dc:description/>
  <dc:language>en-US</dc:language>
  <cp:lastModifiedBy>Ziak</cp:lastModifiedBy>
  <dcterms:modified xsi:type="dcterms:W3CDTF">2006-06-26T18:59:29Z</dcterms:modified>
  <cp:revision>59</cp:revision>
  <dc:subject/>
  <dc:title>Snímka 1</dc:title>
</cp:coreProperties>
</file>