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212-064F-4079-A925-B3D1E022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656-CE75-4FAB-BCE9-67332B23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86D0-663B-4823-96E3-818AE039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C1C-33AB-4A22-8B4A-3290F140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19E-CD8F-4E8B-A7E9-F98D003B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7AC-8A48-4DA5-B2C0-F9BA43A0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C8B-F2B1-4866-99A0-3FBDEAC1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8CF-C202-452E-9E40-C874825C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10C-D018-4EDC-9459-2F6BD14F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53B-7A15-4E55-AF0B-F6096619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F62-05B2-48AB-8D5F-C05A1173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A2E-0983-4812-80EF-F55DAD09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9CBF-1DC8-4E7B-AE11-0D0644D08C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99ff"/>
                </a:solidFill>
                <a:latin typeface="Arial"/>
              </a:rPr>
              <a:t>Základná škola v Bertotovci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99ff"/>
                </a:solidFill>
                <a:latin typeface="Arial"/>
              </a:rPr>
              <a:t>uvád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600" spc="-1" strike="noStrike">
                <a:solidFill>
                  <a:srgbClr val="6699ff"/>
                </a:solidFill>
                <a:latin typeface="Arial"/>
                <a:ea typeface="Arial"/>
              </a:rPr>
              <a:t>KONIE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99ff"/>
                </a:solidFill>
                <a:latin typeface="Arial"/>
                <a:ea typeface="Arial"/>
              </a:rPr>
              <a:t>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600" spc="-1" strike="noStrike">
                <a:solidFill>
                  <a:srgbClr val="6699ff"/>
                </a:solidFill>
                <a:latin typeface="Arial"/>
                <a:ea typeface="Arial"/>
              </a:rPr>
              <a:t>20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6699ff"/>
                </a:solidFill>
                <a:latin typeface="Arial"/>
              </a:rPr>
              <a:t>príbe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600" spc="-1" strike="noStrike">
                <a:solidFill>
                  <a:srgbClr val="6699ff"/>
                </a:solidFill>
                <a:latin typeface="Arial"/>
              </a:rPr>
              <a:t>ANIČKY SPIŠÁKOVEJ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600" spc="-1" strike="noStrike">
                <a:solidFill>
                  <a:srgbClr val="6699ff"/>
                </a:solidFill>
                <a:latin typeface="Arial"/>
              </a:rPr>
              <a:t>SRNČIE  PAROH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ol pekný jarný deň, ocko ma volal na prechádzku, no mne sa nechcelo. Bola som lenivá. Ale nakoniec ma ocko presvedčil a išli sme. Zobrali sme psíka a br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258840"/>
            <a:ext cx="621828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2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ak sme sa išli poprechádzať po lese. Ja som nazbierala mamke pekné kvety a ocko sa pozeral po stromo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258840"/>
            <a:ext cx="621828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5157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razu vidím pri ockových nohách srnčie parohy. Rýchlo som k nemu pribehla a povedala som mu, aby sa pozrel k nohám, čo má pri nich. Veľmi sme sa všetci potešili, ale ja najvi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03280" y="258840"/>
            <a:ext cx="643896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526896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ak sme prišli domov. Mamke som dala nazbierané kvety. Mala z nich veľkú radosť a ocko ukázal mamke srnčie parohy. Vyčistil ich od hliny a zavesil do chod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258840"/>
            <a:ext cx="643896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ždy, keď idem okolo nich spomínam na tú prechádzku. Som rada, že som sa dala prehovoriť ockovi a spomienky mi dlho ostan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258840"/>
            <a:ext cx="6438960" cy="46861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99ff"/>
                </a:solidFill>
                <a:latin typeface="Arial"/>
              </a:rPr>
              <a:t>Text nahovorila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99ff"/>
                </a:solidFill>
                <a:latin typeface="Arial"/>
              </a:rPr>
              <a:t>Adriana Centkov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99ff"/>
                </a:solidFill>
                <a:latin typeface="Arial"/>
              </a:rPr>
              <a:t>Grafická úprava a réžia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6699ff"/>
                </a:solidFill>
                <a:latin typeface="Arial"/>
              </a:rPr>
              <a:t>Mgr. Valentín Šefčí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1:41:19Z</dcterms:created>
  <dc:creator>Infovek</dc:creator>
  <dc:description/>
  <dc:language>en-US</dc:language>
  <cp:lastModifiedBy>Infovek</cp:lastModifiedBy>
  <dcterms:modified xsi:type="dcterms:W3CDTF">2003-04-01T08:39:04Z</dcterms:modified>
  <cp:revision>14</cp:revision>
  <dc:subject/>
  <dc:title>Základná škola v Bertotovciach</dc:title>
</cp:coreProperties>
</file>