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3A94-3E66-4BA0-BD9F-3603B65CD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D26D-24EC-4D32-9C28-7F309F3D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D7DF-0654-430D-A673-76089771D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4D38-D58D-4BAF-A8DE-42FFB1CCF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FBED0-51D0-4A64-B6C8-4A976C685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FD67EC-DDF1-4CE4-8082-63870E23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42ABF-F172-45C7-B533-0AD40438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90DF4-B864-4D33-8464-FBC40DA8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7757A-019E-44A2-931E-D9D6F3E9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5F305-928F-4527-9888-1ACF17F1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A2782-E904-41D4-BFB6-AB88D9CE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A38E-DED0-4031-B60B-116D1D8D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EC2BA-FA6C-49C2-B858-43867E77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D6DD2-7EDA-4974-A85B-66A9F232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E18B9-F5D5-4A26-946A-63F367B2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3E992A-C11F-4C55-8438-B68B8E30B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29DFF-AE17-4D2F-9842-023FB0C98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339E-C119-4435-B935-F280AD00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43FE-F9A0-4DB7-9E28-C1F76AFE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64FF-A043-467B-84D1-A9C5990D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FCA1-B2C8-4A23-A68C-97D79695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918E-A8DE-4E1E-B31C-460352A7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ED39-BDC6-4AEC-BF4B-E77E9DA2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A5FF-5A61-4A60-9393-2A03F1EF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aa65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5AB6-217D-4DBC-8CCA-982EB180D5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aa65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86A7-6750-4FBF-8542-F2226FBFBF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aa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aa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aa65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aa65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52131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ccaa00"/>
                </a:solidFill>
                <a:latin typeface="Arial"/>
              </a:rPr>
              <a:t>„</a:t>
            </a:r>
            <a:r>
              <a:rPr b="0" lang="sk-SK" sz="2400" spc="-1" strike="noStrike">
                <a:solidFill>
                  <a:srgbClr val="ccaa00"/>
                </a:solidFill>
                <a:latin typeface="Arial"/>
              </a:rPr>
              <a:t>Už je neskoro. Musím sa ponáhľať zobudiť všetkých ľudí. Treba im ísť do práce a ďeťom do školy.“</a:t>
            </a:r>
            <a:r>
              <a:rPr b="0" lang="sk-SK" sz="20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ccaa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58920" y="358920"/>
            <a:ext cx="6589800" cy="467964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2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aa65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630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ccaa00"/>
                </a:solidFill>
                <a:latin typeface="Arial"/>
              </a:rPr>
              <a:t>Rýchle si umylo zuby, oblieklo sa a vyšlo von. Pustilo sa do práce. Keď pobehalo celý svet a unavené sa vracalo domov, stretlo Mesiac. </a:t>
            </a:r>
            <a:endParaRPr b="0" lang="en-US" sz="2400" spc="-1" strike="noStrike">
              <a:solidFill>
                <a:srgbClr val="ccaa00"/>
              </a:solidFill>
              <a:latin typeface="Arial"/>
            </a:endParaRPr>
          </a:p>
        </p:txBody>
      </p:sp>
    </p:spTree>
  </p:cSld>
  <p:transition spd="slow" advTm="15000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4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aa65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5229000"/>
            <a:ext cx="842472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ccaa00"/>
                </a:solidFill>
                <a:latin typeface="Arial"/>
              </a:rPr>
              <a:t>Mesiac sa vypytoval čo je nové vo svete. Všetko je v poriadku, iba v jednom domčeku sa malému Jankovi nechcelo vstávať. Muselo som ho dlho štekliť svojimi lúčmi, kým sa prebudil. Také som unavené. </a:t>
            </a:r>
            <a:endParaRPr b="0" lang="en-US" sz="2400" spc="-1" strike="noStrike">
              <a:solidFill>
                <a:srgbClr val="ccaa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258920" y="358920"/>
            <a:ext cx="6589800" cy="468144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aa65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64680"/>
            <a:ext cx="8229600" cy="623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ccaa00"/>
                </a:solidFill>
                <a:latin typeface="Arial"/>
              </a:rPr>
              <a:t>Mesiačik Slniečko poľutoval, rozlúčil sa a povedal: „Musím sa ponáhľať k Jankovi, nech ide skoro spať, aby ráno zavčasu vstal do školy. Ako povedal,tak aj urobil. Nazrel do Jankovej izby. Hoci už bolo neskoro, Janko ešte sedel pred počítačom a hral bojové hry. Mesiačik sa nazlostil a zažmurkal na Janka jedným okom:</a:t>
            </a:r>
            <a:r>
              <a:rPr b="0" lang="sk-SK" sz="2800" spc="-1" strike="noStrike">
                <a:solidFill>
                  <a:srgbClr val="ccaa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ccaa00"/>
              </a:solidFill>
              <a:latin typeface="Arial"/>
            </a:endParaRPr>
          </a:p>
        </p:txBody>
      </p:sp>
    </p:spTree>
  </p:cSld>
  <p:transition spd="slow" advTm="18000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6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aa65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19120" y="5084280"/>
            <a:ext cx="8229600" cy="14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ccaa00"/>
                </a:solidFill>
                <a:latin typeface="Arial"/>
              </a:rPr>
              <a:t>„</a:t>
            </a:r>
            <a:r>
              <a:rPr b="0" lang="sk-SK" sz="2400" spc="-1" strike="noStrike">
                <a:solidFill>
                  <a:srgbClr val="ccaa00"/>
                </a:solidFill>
                <a:latin typeface="Arial"/>
              </a:rPr>
              <a:t>Prečo ešte nespíš Janko? Už je veľa hodín. Ak chceš, poprosím vietor, nech rozhojdá konáre stromov a zaspieva ti uspávanku.“ </a:t>
            </a:r>
            <a:r>
              <a:rPr b="0" lang="sk-SK" sz="28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caa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258920" y="358920"/>
            <a:ext cx="6589800" cy="468144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7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aa65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49003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ccaa00"/>
                </a:solidFill>
                <a:latin typeface="Arial"/>
              </a:rPr>
              <a:t>Janko súhlasil. Umyl sa, vyzliekol a ľahol si do postele. Stromy tíško šumeli a Janko zaspal. </a:t>
            </a:r>
            <a:r>
              <a:rPr b="0" lang="sk-SK" sz="28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caa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58920" y="358920"/>
            <a:ext cx="6586560" cy="467964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8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aa65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630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ccaa00"/>
                </a:solidFill>
                <a:latin typeface="Arial"/>
              </a:rPr>
              <a:t>Snívalo sa mu o novej futbalovej lopte. Už sa videl, ako dáva góly v dôležitom zápase. Diváci kričia jeho meno a on je hrdina. Bol veľmi šťastný. </a:t>
            </a:r>
            <a:r>
              <a:rPr b="0" lang="sk-SK" sz="2800" spc="-1" strike="noStrike">
                <a:solidFill>
                  <a:srgbClr val="ccaa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ccaa00"/>
              </a:solidFill>
              <a:latin typeface="Arial"/>
            </a:endParaRPr>
          </a:p>
        </p:txBody>
      </p:sp>
    </p:spTree>
  </p:cSld>
  <p:transition spd="slow" advTm="12000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10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aa65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19120" y="4971960"/>
            <a:ext cx="822960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ccaa00"/>
                </a:solidFill>
                <a:latin typeface="Arial"/>
              </a:rPr>
              <a:t>Ráno vstal zavčasu, umyl sa a veselo odišiel do školy. </a:t>
            </a:r>
            <a:endParaRPr b="0" lang="en-US" sz="2400" spc="-1" strike="noStrike">
              <a:solidFill>
                <a:srgbClr val="ccaa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258920" y="358920"/>
            <a:ext cx="6586560" cy="46796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11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aa65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1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aa65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27651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ccaa00"/>
                </a:solidFill>
                <a:latin typeface="Arrus Blk BT"/>
              </a:rPr>
              <a:t>Videli ste:</a:t>
            </a: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aa65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285264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ccaa00"/>
                </a:solidFill>
                <a:latin typeface="Arrus Blk BT"/>
              </a:rPr>
              <a:t>Základná škola </a:t>
            </a:r>
            <a:br>
              <a:rPr sz="4000"/>
            </a:br>
            <a:r>
              <a:rPr b="0" i="1" lang="sk-SK" sz="4000" spc="-1" strike="noStrike">
                <a:solidFill>
                  <a:srgbClr val="ccaa00"/>
                </a:solidFill>
                <a:latin typeface="Arrus Blk BT"/>
              </a:rPr>
              <a:t>v Bertotovciach</a:t>
            </a: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</p:spTree>
  </p:cSld>
  <p:transition spd="slow" advTm="4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aa65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1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aa65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9280" y="2421000"/>
            <a:ext cx="792972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5400" spc="-1" strike="noStrike">
                <a:solidFill>
                  <a:srgbClr val="ccaa00"/>
                </a:solidFill>
                <a:latin typeface="Arrus Blk BT"/>
              </a:rPr>
              <a:t>SLNEČNÝ  </a:t>
            </a:r>
            <a:br>
              <a:rPr sz="5400"/>
            </a:br>
            <a:r>
              <a:rPr b="0" lang="sk-SK" sz="5400" spc="-1" strike="noStrike">
                <a:solidFill>
                  <a:srgbClr val="ccaa00"/>
                </a:solidFill>
                <a:latin typeface="Arrus Blk BT"/>
              </a:rPr>
              <a:t>PRÍBEH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aa65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1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aa65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630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ccaa00"/>
                </a:solidFill>
                <a:latin typeface="Arrus Blk BT"/>
              </a:rPr>
              <a:t>Scenár a obrázky:</a:t>
            </a:r>
            <a:br>
              <a:rPr sz="4000"/>
            </a:br>
            <a:r>
              <a:rPr b="0" lang="sk-SK" sz="4000" spc="-1" strike="noStrike">
                <a:solidFill>
                  <a:srgbClr val="ccaa00"/>
                </a:solidFill>
                <a:latin typeface="Arrus Blk BT"/>
              </a:rPr>
              <a:t>Miroslav Tomko</a:t>
            </a: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aa65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1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aa65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630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ccaa00"/>
                </a:solidFill>
                <a:latin typeface="Arrus Blk BT"/>
              </a:rPr>
              <a:t>Grafická úprava a réžia:</a:t>
            </a:r>
            <a:br>
              <a:rPr sz="4000"/>
            </a:br>
            <a:r>
              <a:rPr b="0" lang="sk-SK" sz="4000" spc="-1" strike="noStrike">
                <a:solidFill>
                  <a:srgbClr val="ccaa00"/>
                </a:solidFill>
                <a:latin typeface="Arrus Blk BT"/>
              </a:rPr>
              <a:t>Valentín Šefčík</a:t>
            </a: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aa65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100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aa65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630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aa00"/>
                </a:solidFill>
                <a:latin typeface="Arrus Blk BT"/>
                <a:ea typeface="Tahoma"/>
              </a:rPr>
              <a:t>©</a:t>
            </a:r>
            <a:br>
              <a:rPr sz="4000"/>
            </a:br>
            <a:r>
              <a:rPr b="0" lang="sk-SK" sz="4000" spc="-1" strike="noStrike">
                <a:solidFill>
                  <a:srgbClr val="ccaa00"/>
                </a:solidFill>
                <a:latin typeface="Arrus Blk BT"/>
              </a:rPr>
              <a:t>2006</a:t>
            </a: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aa65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100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aa65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630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ccaa00"/>
                </a:solidFill>
                <a:latin typeface="Arrus Blk BT"/>
              </a:rPr>
              <a:t>Koniec</a:t>
            </a: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aa65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1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aa65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17040" y="3128760"/>
            <a:ext cx="7929720" cy="13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ccaa00"/>
                </a:solidFill>
                <a:latin typeface="Arrus Blk BT"/>
              </a:rPr>
              <a:t>uvádz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aa65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1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17040" y="2631600"/>
            <a:ext cx="792972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5400" spc="-1" strike="noStrike">
                <a:solidFill>
                  <a:srgbClr val="ccaa00"/>
                </a:solidFill>
                <a:latin typeface="Arrus Blk BT"/>
              </a:rPr>
              <a:t>SLNEČNÝ  </a:t>
            </a:r>
            <a:br>
              <a:rPr sz="5400"/>
            </a:br>
            <a:r>
              <a:rPr b="0" lang="sk-SK" sz="5400" spc="-1" strike="noStrike">
                <a:solidFill>
                  <a:srgbClr val="ccaa00"/>
                </a:solidFill>
                <a:latin typeface="Arrus Blk BT"/>
              </a:rPr>
              <a:t>PRÍBEH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aa65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1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aa65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47200" y="2923920"/>
            <a:ext cx="79297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ccaa00"/>
                </a:solidFill>
                <a:latin typeface="Arrus Blk BT"/>
              </a:rPr>
              <a:t>Napísal: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ccaa00"/>
                </a:solidFill>
                <a:latin typeface="Arrus Blk BT"/>
              </a:rPr>
              <a:t>Miroslav Tomk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aa65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46040" y="33336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ccaa00"/>
                </a:solidFill>
                <a:latin typeface="Arial"/>
              </a:rPr>
              <a:t>Jedného dňa vstalo Slniečko z postele, zazívalo, ponaťahovalo sa. Pozrelo na hodiny a zľaklo sa.</a:t>
            </a:r>
            <a:r>
              <a:rPr b="0" lang="sk-SK" sz="28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caa00"/>
              </a:solidFill>
              <a:latin typeface="Arial"/>
            </a:endParaRPr>
          </a:p>
        </p:txBody>
      </p:sp>
    </p:spTree>
  </p:cSld>
  <p:transition spd="slow" advTm="18000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1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05:29:02Z</dcterms:created>
  <dc:creator>Riaditeľ</dc:creator>
  <dc:description/>
  <dc:language>en-US</dc:language>
  <cp:lastModifiedBy>Ziak</cp:lastModifiedBy>
  <dcterms:modified xsi:type="dcterms:W3CDTF">2006-07-03T16:27:12Z</dcterms:modified>
  <cp:revision>56</cp:revision>
  <dc:subject/>
  <dc:title>Snímka 1</dc:title>
</cp:coreProperties>
</file>