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425-1B44-448C-9D76-E41F10E5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94E-56EF-405E-80AD-CFDA7476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2C0-CABF-4167-8D88-1180B016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C12-E3A8-45BD-91E1-4B9D59CE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5A6A4-256E-49DF-85F9-6FD6E338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9A4F8-5222-45BA-B6C2-1720F20F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A10EE-2A58-4757-94E9-E48FA36C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629E7-CB87-4F91-A35A-EBB233B5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70D1-BB7F-40AC-A7F0-A8B0DEDA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AFB15-F7E1-47B7-8352-95F2B349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4511-96DB-4BBA-ABB6-17F2254A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CBB-22C1-46B0-BDE5-641D9AE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ADE1-A427-4BF2-A7E3-4DEC792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E11F3-4681-4BC7-93FE-9F25D35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23500-E5AD-44EC-AF4D-3114617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45091-2C34-40E1-8479-C3C3D19C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FF581-3E37-4716-A613-2B16259E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6DD-4912-48A1-BA48-59273480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10A-C7F8-42CF-9F5A-7CDA254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CCA-7C43-4355-AE25-CD598EF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F8D-1DB1-41C6-A2FF-E8A61BE9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E78-FC5F-4042-A5BA-E03EFD1F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DA9-57F3-44D8-9B78-5547D77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1E8-7D77-4902-BDDB-CBE6FE0E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8105-7908-45B9-BB93-5B032CBF9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BE46-5F91-4677-84DF-05885AD4F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Bolo raz jedno malé mestečko. V tom mestečku stál malý domček a v ňom bývala starenka. Na komíne tohoto domčeka bolo bocianie hniezdo. Bývala v ňom utešená rodinka: ocko, mamka a traja synčekovia. Pekne si nažívali, lietali kade-tade a prinášali ľuďom radosť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8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21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eď sa leto chýlilo ku koncu, otecko oznámil celej rodine, že prichádza zima, a tak sa musia pripraviť na dlhú cestu do teplých krajín.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358920"/>
            <a:ext cx="6589800" cy="4679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adišiel deň odletu. Najmenší bocian bol však veľmi hladný, a tak sa vybral k rybníku, aby si chytil niečo na cestu. Zrazu uvidel malú žabku a chcel ju chytiť. Ale žabka bola veľmi šikovná a prefíkaná. Bocianovi sa nedala chytiť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4247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A tak sa celý deň naháňali, až bocian zabudol, že mal práve dnes odletieť s rodičmi do teplých krají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358920"/>
            <a:ext cx="6589800" cy="4678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468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eď sa večer celý vyčerpaný a hladný vrátil, uvidel, že hniezdo je prázdne. Začal zúfalo lietať dookola. Ale široko-ďaleko nevidel žiadneho bociana. Keďže sa bál sám vydať na ďalekú cestu, rozhodol sa, že prezimuje v rodnom hniezde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8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9120" y="5084280"/>
            <a:ext cx="822960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rišla tuhá zima a napadol sneh. Bocian bol stále smutnejší a bola mu veľká zima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358920"/>
            <a:ext cx="6589800" cy="4678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00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eď sa raz starenka vracala domov, uvidela v hniezde na komíne zmrznuté bocianie mláďa. Prišlo jej ho veľmi ľúto a tak si ho vzala k sebe do domčeka. Spoločne prežili zimu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58920" y="358920"/>
            <a:ext cx="6589800" cy="46782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rišla jar a vonku sa oteplilo. Z malého bocianika vyrástol dospelý bocian. Každý deň hľadel ďaleko do oblakov a čakal, či neuvidí prilietať svoju rodinu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9120" y="497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edného slnečného dňa uvidel letieť kŕdeľ bocianov. Medzi nimi zbadal aj svoju rodinu. Všetci boli šťastní, že sú opäť spolu. Bocian už odvtedy nikdy neopustil svoju rodin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358920"/>
            <a:ext cx="6589800" cy="4678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Základná škola </a:t>
            </a:r>
            <a:br>
              <a:rPr sz="6600"/>
            </a:b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v Bertotovciach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6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Videli ste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Príbeh  </a:t>
            </a:r>
            <a:br>
              <a:rPr sz="6600"/>
            </a:b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malého bociana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Scenár:</a:t>
            </a:r>
            <a:br>
              <a:rPr sz="6600"/>
            </a:b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adrián hri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Grafická úprava a réžia:</a:t>
            </a:r>
            <a:br>
              <a:rPr sz="6600"/>
            </a:b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valentín šefcík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164200" y="33066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ffffff"/>
                </a:solidFill>
                <a:latin typeface="Anna"/>
              </a:rPr>
              <a:t>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nna"/>
                <a:ea typeface="Tahoma"/>
              </a:rPr>
              <a:t>©</a:t>
            </a:r>
            <a:br>
              <a:rPr sz="6600"/>
            </a:b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2006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konie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2392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uvádza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Príbeh  </a:t>
            </a:r>
            <a:br>
              <a:rPr sz="6600"/>
            </a:b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malého bociana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Napísal: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nna"/>
              </a:rPr>
              <a:t>adrián hri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5:29:02Z</dcterms:created>
  <dc:creator>Riaditeľ</dc:creator>
  <dc:description/>
  <dc:language>en-US</dc:language>
  <cp:lastModifiedBy>Ziak</cp:lastModifiedBy>
  <dcterms:modified xsi:type="dcterms:W3CDTF">2006-06-26T18:58:42Z</dcterms:modified>
  <cp:revision>45</cp:revision>
  <dc:subject/>
  <dc:title>Snímka 1</dc:title>
</cp:coreProperties>
</file>